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D01-AAC1-4A84-82EA-11379F26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876-8AE9-4B4C-919B-E1AE5C2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3FE-716F-42F2-9A12-33BB3DA0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95A-09E5-4511-AE17-7DDF57BB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63B-4C9C-4C21-A7A2-1C3CE35A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5A48-9112-4238-9A49-6CF5C31A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74C1-D728-45FD-983C-D4729A46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B3A-4965-48AC-A29C-EAF0250F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592-BD8F-43CF-9A68-0CED441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1685-8277-4C1F-AA8A-76EED10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334-DC17-452A-AD90-F405C32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AEC-B664-4CF2-A566-57E227D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39F-0BB7-4C31-86C9-464435C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B3F-0BAC-4BD3-8ED4-E4B90F3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D6AA-2F64-4E1D-B834-EA919EF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C5C-EE38-48CF-8813-698A0E9B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93A-A792-4428-B980-297735D6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DA8-8AAF-4C3C-A451-925EE580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147-144A-4FF0-B8DA-D5A653A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66F-EB9D-455F-A8C9-E2C033D5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B94-2D10-458B-B5E0-AEA6397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FC7-6003-4E90-ADA9-B4B0349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C84-F259-42F1-BF0C-15075EC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DA7-52A9-4EE5-AF37-4336CF9B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DB8-AC79-4643-B77A-D279D51B8A8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75C-2FFC-40AF-9863-D9E49F36D9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25760" y="197928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Evolution by </a:t>
            </a:r>
            <a:br>
              <a:rPr sz="5000"/>
            </a:b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Natural Selection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Lyell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97 – 1875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geolog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Darwin learned from Lyell that processes that affect the Earth also affect the organisms that inhabit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Lyell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15120" y="2560680"/>
            <a:ext cx="25797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3300"/>
                </a:solidFill>
                <a:latin typeface="Times New Roman"/>
              </a:rPr>
              <a:t>as you dig deeper into the Earth, the older the fossils ar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0" r="41850" b="0"/>
          <a:stretch/>
        </p:blipFill>
        <p:spPr>
          <a:xfrm>
            <a:off x="996840" y="2235240"/>
            <a:ext cx="5067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Alfred Wallace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23 – 1913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2000" y="1633680"/>
            <a:ext cx="80820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natur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up with the theory of natural selection about the same time as Darwin (actually, he didn’t publish his book until 18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he gave Darwin two of his unpublished papers to read; some suggest that these papers gave Darwin the motivation to publish his book quickly (before Walla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8640" y="2603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Castellar"/>
              </a:rPr>
              <a:t>Theory of Evolution by Natural Sel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Struggle for Exist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members of each species compete regularly to obtain food, living space, and other necessitie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Survival of the Fittes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those that are well suited to their environment are more likely to survive and pass on their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533520"/>
            <a:ext cx="76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Arial Black"/>
              </a:rPr>
              <a:t>Descent with Modific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8288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each species has descended, with changes, from other species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78040" y="3639960"/>
            <a:ext cx="8265960" cy="1492560"/>
            <a:chOff x="878040" y="3639960"/>
            <a:chExt cx="8265960" cy="1492560"/>
          </a:xfrm>
        </p:grpSpPr>
        <p:sp>
          <p:nvSpPr>
            <p:cNvPr id="131" name=""/>
            <p:cNvSpPr/>
            <p:nvPr/>
          </p:nvSpPr>
          <p:spPr>
            <a:xfrm>
              <a:off x="878040" y="3639960"/>
              <a:ext cx="758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* a trait favored in one environm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44600" y="4429080"/>
              <a:ext cx="779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may not be favored in anoth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78040" y="1811160"/>
            <a:ext cx="7438680" cy="1438560"/>
            <a:chOff x="878040" y="1811160"/>
            <a:chExt cx="7438680" cy="1438560"/>
          </a:xfrm>
        </p:grpSpPr>
        <p:sp>
          <p:nvSpPr>
            <p:cNvPr id="134" name=""/>
            <p:cNvSpPr/>
            <p:nvPr/>
          </p:nvSpPr>
          <p:spPr>
            <a:xfrm>
              <a:off x="878040" y="1811160"/>
              <a:ext cx="743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* without genetic variation,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25520" y="2546280"/>
              <a:ext cx="693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82400"/>
                  </a:solidFill>
                  <a:latin typeface="Times New Roman"/>
                  <a:ea typeface="Times New Roman"/>
                </a:rPr>
                <a:t>evolution is not possib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A few defin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Speciation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57320" y="1828800"/>
            <a:ext cx="7620120" cy="2603520"/>
            <a:chOff x="1057320" y="1828800"/>
            <a:chExt cx="7620120" cy="2603520"/>
          </a:xfrm>
        </p:grpSpPr>
        <p:sp>
          <p:nvSpPr>
            <p:cNvPr id="139" name=""/>
            <p:cNvSpPr/>
            <p:nvPr/>
          </p:nvSpPr>
          <p:spPr>
            <a:xfrm>
              <a:off x="1057320" y="2706840"/>
              <a:ext cx="690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of natural selection 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57320" y="182880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ormation of new species (by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7320" y="3728880"/>
              <a:ext cx="647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Isolation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Evolution -</a:t>
            </a:r>
            <a:r>
              <a:rPr b="1" lang="en-US" sz="5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76916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tic changes in a species over time usually to allow the organism to better adapt to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Geographic Isolation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28600" y="1703520"/>
            <a:ext cx="7639200" cy="3913200"/>
            <a:chOff x="1128600" y="1703520"/>
            <a:chExt cx="7639200" cy="3913200"/>
          </a:xfrm>
        </p:grpSpPr>
        <p:sp>
          <p:nvSpPr>
            <p:cNvPr id="144" name=""/>
            <p:cNvSpPr/>
            <p:nvPr/>
          </p:nvSpPr>
          <p:spPr>
            <a:xfrm>
              <a:off x="1147680" y="4913280"/>
              <a:ext cx="745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become two different speci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28600" y="4086360"/>
              <a:ext cx="736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erent environments) that the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7680" y="3298680"/>
              <a:ext cx="751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ome so different (because of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492280"/>
              <a:ext cx="693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geographically), they often wil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170352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 species is separa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514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82400"/>
                </a:solidFill>
                <a:latin typeface="Castellar"/>
              </a:rPr>
              <a:t>History &amp; Scientists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9320" y="1981080"/>
            <a:ext cx="7619760" cy="1389240"/>
            <a:chOff x="1219320" y="1981080"/>
            <a:chExt cx="7619760" cy="1389240"/>
          </a:xfrm>
        </p:grpSpPr>
        <p:sp>
          <p:nvSpPr>
            <p:cNvPr id="94" name=""/>
            <p:cNvSpPr/>
            <p:nvPr/>
          </p:nvSpPr>
          <p:spPr>
            <a:xfrm>
              <a:off x="1905120" y="2666880"/>
              <a:ext cx="457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y of evolu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9320" y="1981080"/>
              <a:ext cx="761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 naturalist that is credited with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410080"/>
            <a:ext cx="716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:  birds with different beaks….they ate different food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1828800"/>
            <a:ext cx="8153280" cy="3218040"/>
            <a:chOff x="914400" y="1828800"/>
            <a:chExt cx="8153280" cy="3218040"/>
          </a:xfrm>
        </p:grpSpPr>
        <p:sp>
          <p:nvSpPr>
            <p:cNvPr id="99" name=""/>
            <p:cNvSpPr/>
            <p:nvPr/>
          </p:nvSpPr>
          <p:spPr>
            <a:xfrm>
              <a:off x="1523880" y="434340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s for over 20 year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3880" y="3778200"/>
              <a:ext cx="73915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bitats; he studied plants an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3124080"/>
              <a:ext cx="723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erent because of differ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243828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plants but they looked slightl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1828800"/>
              <a:ext cx="815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 he repeatedly saw similar anima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Charles Darwin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809 – 1882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828800"/>
            <a:ext cx="8076960" cy="3751560"/>
            <a:chOff x="762120" y="1828800"/>
            <a:chExt cx="8076960" cy="3751560"/>
          </a:xfrm>
        </p:grpSpPr>
        <p:sp>
          <p:nvSpPr>
            <p:cNvPr id="106" name=""/>
            <p:cNvSpPr/>
            <p:nvPr/>
          </p:nvSpPr>
          <p:spPr>
            <a:xfrm>
              <a:off x="1447920" y="4876920"/>
              <a:ext cx="65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1600" y="411480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cestor by the process of natura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327672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olved (changed) from a comm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590920"/>
              <a:ext cx="739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the similar animals and plan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1828800"/>
              <a:ext cx="80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he concluded (in his 1858 book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Castellar"/>
              </a:rPr>
              <a:t>Scientists that “helped” Darw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Thomas Malthus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66 – 1834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ed that if human population continued to grow unchecked, there would be insufficient living space and food for every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Castellar"/>
              </a:rPr>
              <a:t>Jean-Baptiste Lamarck </a:t>
            </a:r>
            <a:r>
              <a:rPr b="1" lang="en-US" sz="3000" spc="-1" strike="noStrike">
                <a:solidFill>
                  <a:srgbClr val="482400"/>
                </a:solidFill>
                <a:latin typeface="Castellar"/>
              </a:rPr>
              <a:t>(1744 – 1829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natur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proposed that by selective use or disuse of organs, organisms acquired or lost traits; these traits could then be passed on to their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he first part of his hypothesis was proven incorrect but Darwin used the “idea” for his hypothesis of natur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7:47:07Z</dcterms:created>
  <dc:creator>Plano ISD</dc:creator>
  <dc:description/>
  <dc:language>en-US</dc:language>
  <cp:lastModifiedBy>Amy Schilling</cp:lastModifiedBy>
  <dcterms:modified xsi:type="dcterms:W3CDTF">2008-03-04T14:18:48Z</dcterms:modified>
  <cp:revision>28</cp:revision>
  <dc:subject/>
  <dc:title>PowerPoint Presentation</dc:title>
</cp:coreProperties>
</file>